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319-91A7-4B7A-93E1-FB393EAB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CE7-21FD-422D-809D-4EBABD2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95D-D736-49AD-8E1C-D514F2EF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9F2-05EF-4E07-90C8-9633438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D0A-9758-4B74-A2F9-57525E45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776-43C8-4077-BBB6-7198FCB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1EC-F836-4F21-BF57-F5427BA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02B-F5F5-46C1-8CDC-73AB96AF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9B0-7FB1-4912-B01C-F66C73B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5D1-BFFC-4329-81AE-E653D37D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66E-0CED-4A14-A40A-CA64AB8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8FE-C615-48EC-875F-463994C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CABD-6492-4945-9081-45DB8583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 rot="21121800">
            <a:off x="3452760" y="5567400"/>
            <a:ext cx="83808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0" y="724"/>
                </a:moveTo>
                <a:lnTo>
                  <a:pt x="288" y="176"/>
                </a:lnTo>
                <a:lnTo>
                  <a:pt x="274" y="0"/>
                </a:lnTo>
                <a:lnTo>
                  <a:pt x="528" y="134"/>
                </a:lnTo>
                <a:lnTo>
                  <a:pt x="376" y="217"/>
                </a:lnTo>
                <a:lnTo>
                  <a:pt x="84" y="768"/>
                </a:lnTo>
                <a:lnTo>
                  <a:pt x="0" y="72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235400">
            <a:off x="3803400" y="5576760"/>
            <a:ext cx="453960" cy="96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053040" y="58197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1" lang="en-US" sz="2400" spc="-1" strike="noStrike">
                <a:solidFill>
                  <a:srgbClr val="e31a0b"/>
                </a:solidFill>
                <a:latin typeface="Times New Roman"/>
              </a:rPr>
              <a:t>turn O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25560" y="5190480"/>
            <a:ext cx="986760" cy="1315080"/>
            <a:chOff x="2725560" y="5190480"/>
            <a:chExt cx="986760" cy="1315080"/>
          </a:xfrm>
        </p:grpSpPr>
        <p:sp>
          <p:nvSpPr>
            <p:cNvPr id="246" name=""/>
            <p:cNvSpPr/>
            <p:nvPr/>
          </p:nvSpPr>
          <p:spPr>
            <a:xfrm rot="433800">
              <a:off x="2798640" y="5238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46800">
              <a:off x="3272760" y="53175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22240" y="3513240"/>
            <a:ext cx="1281240" cy="18619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77560" y="2367360"/>
            <a:ext cx="4328280" cy="1151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26160" y="3548160"/>
            <a:ext cx="2700000" cy="39463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58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637720" y="5146920"/>
            <a:ext cx="998280" cy="1323000"/>
            <a:chOff x="2637720" y="5146920"/>
            <a:chExt cx="998280" cy="1323000"/>
          </a:xfrm>
        </p:grpSpPr>
        <p:sp>
          <p:nvSpPr>
            <p:cNvPr id="267" name=""/>
            <p:cNvSpPr/>
            <p:nvPr/>
          </p:nvSpPr>
          <p:spPr>
            <a:xfrm rot="475200">
              <a:off x="2717640" y="51987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88800">
              <a:off x="3197520" y="52812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450960" y="3513240"/>
            <a:ext cx="1352520" cy="17971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776840" y="2599560"/>
            <a:ext cx="4255560" cy="9187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40200" y="3533760"/>
            <a:ext cx="2583000" cy="33242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79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76120" y="2840400"/>
            <a:ext cx="4196520" cy="6753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520720" y="5061960"/>
            <a:ext cx="1057680" cy="1358280"/>
            <a:chOff x="2520720" y="5061960"/>
            <a:chExt cx="1057680" cy="1358280"/>
          </a:xfrm>
        </p:grpSpPr>
        <p:sp>
          <p:nvSpPr>
            <p:cNvPr id="293" name=""/>
            <p:cNvSpPr/>
            <p:nvPr/>
          </p:nvSpPr>
          <p:spPr>
            <a:xfrm rot="667800">
              <a:off x="2630520" y="513108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381400">
              <a:off x="3136680" y="5230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>
            <a:off x="3373200" y="3513240"/>
            <a:ext cx="1430280" cy="174600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40200" y="3535200"/>
            <a:ext cx="2670120" cy="33228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060800" y="4745160"/>
            <a:ext cx="595080" cy="778680"/>
            <a:chOff x="4060800" y="4745160"/>
            <a:chExt cx="595080" cy="778680"/>
          </a:xfrm>
        </p:grpSpPr>
        <p:sp>
          <p:nvSpPr>
            <p:cNvPr id="300" name=""/>
            <p:cNvSpPr/>
            <p:nvPr/>
          </p:nvSpPr>
          <p:spPr>
            <a:xfrm>
              <a:off x="40608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94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74680" y="3040920"/>
            <a:ext cx="4353840" cy="473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448000" y="5000040"/>
            <a:ext cx="1095840" cy="1379160"/>
            <a:chOff x="2448000" y="5000040"/>
            <a:chExt cx="1095840" cy="1379160"/>
          </a:xfrm>
        </p:grpSpPr>
        <p:sp>
          <p:nvSpPr>
            <p:cNvPr id="316" name=""/>
            <p:cNvSpPr/>
            <p:nvPr/>
          </p:nvSpPr>
          <p:spPr>
            <a:xfrm rot="796800">
              <a:off x="2576520" y="5079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509800">
              <a:off x="3099960" y="51915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H="1">
            <a:off x="3349440" y="3513240"/>
            <a:ext cx="1454040" cy="17110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54600" y="3535200"/>
            <a:ext cx="3048120" cy="3569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75760" y="3244680"/>
            <a:ext cx="4339440" cy="270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354040" y="4911120"/>
            <a:ext cx="1112760" cy="1388520"/>
            <a:chOff x="2354040" y="4911120"/>
            <a:chExt cx="1112760" cy="1388520"/>
          </a:xfrm>
        </p:grpSpPr>
        <p:sp>
          <p:nvSpPr>
            <p:cNvPr id="336" name=""/>
            <p:cNvSpPr/>
            <p:nvPr/>
          </p:nvSpPr>
          <p:spPr>
            <a:xfrm rot="856800">
              <a:off x="2491200" y="4995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569800">
              <a:off x="3022200" y="5112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 flipH="1">
            <a:off x="3254400" y="3513240"/>
            <a:ext cx="1549440" cy="16383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40200" y="3533760"/>
            <a:ext cx="3265560" cy="359568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95720" y="4866840"/>
            <a:ext cx="1130400" cy="1397520"/>
            <a:chOff x="2295720" y="4866840"/>
            <a:chExt cx="1130400" cy="1397520"/>
          </a:xfrm>
        </p:grpSpPr>
        <p:sp>
          <p:nvSpPr>
            <p:cNvPr id="356" name=""/>
            <p:cNvSpPr/>
            <p:nvPr/>
          </p:nvSpPr>
          <p:spPr>
            <a:xfrm rot="919800">
              <a:off x="2441520" y="49557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632800">
              <a:off x="2980800" y="507924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3201480" y="3531240"/>
            <a:ext cx="1622160" cy="15926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068720" y="4309920"/>
            <a:ext cx="595440" cy="780480"/>
            <a:chOff x="4068720" y="4309920"/>
            <a:chExt cx="595440" cy="780480"/>
          </a:xfrm>
        </p:grpSpPr>
        <p:sp>
          <p:nvSpPr>
            <p:cNvPr id="372" name=""/>
            <p:cNvSpPr/>
            <p:nvPr/>
          </p:nvSpPr>
          <p:spPr>
            <a:xfrm>
              <a:off x="4068720" y="430992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43320" y="463068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46040" y="4841280"/>
            <a:ext cx="1153800" cy="1409040"/>
            <a:chOff x="2246040" y="4841280"/>
            <a:chExt cx="1153800" cy="1409040"/>
          </a:xfrm>
        </p:grpSpPr>
        <p:sp>
          <p:nvSpPr>
            <p:cNvPr id="377" name=""/>
            <p:cNvSpPr/>
            <p:nvPr/>
          </p:nvSpPr>
          <p:spPr>
            <a:xfrm rot="1005000">
              <a:off x="2403720" y="4935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718000">
              <a:off x="2953800" y="5068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H="1">
            <a:off x="3224160" y="3494160"/>
            <a:ext cx="1617840" cy="15969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59480" y="2220840"/>
            <a:ext cx="1422360" cy="715680"/>
            <a:chOff x="5559480" y="2220840"/>
            <a:chExt cx="1422360" cy="715680"/>
          </a:xfrm>
        </p:grpSpPr>
        <p:sp>
          <p:nvSpPr>
            <p:cNvPr id="382" name=""/>
            <p:cNvSpPr/>
            <p:nvPr/>
          </p:nvSpPr>
          <p:spPr>
            <a:xfrm>
              <a:off x="5559480" y="2293920"/>
              <a:ext cx="142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9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0800" y="222084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37040" y="52848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76280" y="375444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068720" y="4309920"/>
            <a:ext cx="595440" cy="780480"/>
            <a:chOff x="4068720" y="4309920"/>
            <a:chExt cx="595440" cy="780480"/>
          </a:xfrm>
        </p:grpSpPr>
        <p:sp>
          <p:nvSpPr>
            <p:cNvPr id="398" name=""/>
            <p:cNvSpPr/>
            <p:nvPr/>
          </p:nvSpPr>
          <p:spPr>
            <a:xfrm>
              <a:off x="4068720" y="430992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43320" y="463068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46040" y="4841280"/>
            <a:ext cx="1153800" cy="1409040"/>
            <a:chOff x="2246040" y="4841280"/>
            <a:chExt cx="1153800" cy="1409040"/>
          </a:xfrm>
        </p:grpSpPr>
        <p:sp>
          <p:nvSpPr>
            <p:cNvPr id="403" name=""/>
            <p:cNvSpPr/>
            <p:nvPr/>
          </p:nvSpPr>
          <p:spPr>
            <a:xfrm rot="1005000">
              <a:off x="2403720" y="4935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718000">
              <a:off x="2953800" y="5068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H="1">
            <a:off x="3224160" y="3494160"/>
            <a:ext cx="1617840" cy="15969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59480" y="2220840"/>
            <a:ext cx="1422360" cy="715680"/>
            <a:chOff x="5559480" y="2220840"/>
            <a:chExt cx="1422360" cy="715680"/>
          </a:xfrm>
        </p:grpSpPr>
        <p:sp>
          <p:nvSpPr>
            <p:cNvPr id="408" name=""/>
            <p:cNvSpPr/>
            <p:nvPr/>
          </p:nvSpPr>
          <p:spPr>
            <a:xfrm>
              <a:off x="5559480" y="2293920"/>
              <a:ext cx="142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9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0800" y="222084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37040" y="52848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476280" y="375444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111400" y="4718160"/>
            <a:ext cx="1217520" cy="1437840"/>
            <a:chOff x="2111400" y="4718160"/>
            <a:chExt cx="1217520" cy="1437840"/>
          </a:xfrm>
        </p:grpSpPr>
        <p:sp>
          <p:nvSpPr>
            <p:cNvPr id="423" name=""/>
            <p:cNvSpPr/>
            <p:nvPr/>
          </p:nvSpPr>
          <p:spPr>
            <a:xfrm rot="1252200">
              <a:off x="2301120" y="482724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965800">
              <a:off x="2880720" y="4986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3122640" y="3549600"/>
            <a:ext cx="1727280" cy="14716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78280" y="3532320"/>
            <a:ext cx="4023000" cy="365760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TAL INTERNAL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30520" y="4716360"/>
            <a:ext cx="1335240" cy="810720"/>
            <a:chOff x="3530520" y="4716360"/>
            <a:chExt cx="1335240" cy="810720"/>
          </a:xfrm>
        </p:grpSpPr>
        <p:sp>
          <p:nvSpPr>
            <p:cNvPr id="429" name=""/>
            <p:cNvSpPr/>
            <p:nvPr/>
          </p:nvSpPr>
          <p:spPr>
            <a:xfrm>
              <a:off x="3530520" y="471636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49760" y="502272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270320" y="4746600"/>
              <a:ext cx="595440" cy="780480"/>
              <a:chOff x="4270320" y="4746600"/>
              <a:chExt cx="595440" cy="780480"/>
            </a:xfrm>
          </p:grpSpPr>
          <p:sp>
            <p:nvSpPr>
              <p:cNvPr id="432" name=""/>
              <p:cNvSpPr/>
              <p:nvPr/>
            </p:nvSpPr>
            <p:spPr>
              <a:xfrm>
                <a:off x="4270320" y="474660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44920" y="506736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932280" y="4732200"/>
              <a:ext cx="56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247680" y="228600"/>
            <a:ext cx="361800" cy="39996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99960"/>
              <a:gd name="textAreaBottom" fmla="*/ 376560 h 399960"/>
            </a:gdLst>
            <a:ahLst/>
            <a:rect l="textAreaLeft" t="textAreaTop" r="textAreaRight" b="textAreaBottom"/>
            <a:pathLst>
              <a:path w="21600" h="23876">
                <a:moveTo>
                  <a:pt x="0" y="0"/>
                </a:moveTo>
                <a:lnTo>
                  <a:pt x="21600" y="0"/>
                </a:lnTo>
                <a:lnTo>
                  <a:pt x="21600" y="23876"/>
                </a:lnTo>
                <a:lnTo>
                  <a:pt x="0" y="23876"/>
                </a:lnTo>
                <a:close/>
              </a:path>
              <a:path fill="lightenLess" w="21600" h="23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76">
                <a:moveTo>
                  <a:pt x="21600" y="0"/>
                </a:moveTo>
                <a:lnTo>
                  <a:pt x="21600" y="23876"/>
                </a:lnTo>
                <a:lnTo>
                  <a:pt x="20200" y="22476"/>
                </a:lnTo>
                <a:lnTo>
                  <a:pt x="20200" y="1400"/>
                </a:lnTo>
                <a:close/>
              </a:path>
              <a:path fill="darkenLess" w="21600" h="23876">
                <a:moveTo>
                  <a:pt x="21600" y="23876"/>
                </a:moveTo>
                <a:lnTo>
                  <a:pt x="0" y="23876"/>
                </a:lnTo>
                <a:lnTo>
                  <a:pt x="1400" y="22476"/>
                </a:lnTo>
                <a:lnTo>
                  <a:pt x="20200" y="22476"/>
                </a:lnTo>
                <a:close/>
              </a:path>
              <a:path fill="lighten" w="21600" h="23876">
                <a:moveTo>
                  <a:pt x="0" y="23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76"/>
                </a:lnTo>
                <a:close/>
              </a:path>
              <a:path fill="darken" w="21600" h="23876">
                <a:moveTo>
                  <a:pt x="3794" y="11938"/>
                </a:moveTo>
                <a:lnTo>
                  <a:pt x="17806" y="4931"/>
                </a:lnTo>
                <a:lnTo>
                  <a:pt x="17806" y="18944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1031760"/>
          <a:ext cx="7307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7307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638360" y="61722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-Neon Laser shot through a strip of Lu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72480" y="5512680"/>
            <a:ext cx="999000" cy="1326240"/>
            <a:chOff x="3372480" y="5512680"/>
            <a:chExt cx="999000" cy="1326240"/>
          </a:xfrm>
        </p:grpSpPr>
        <p:sp>
          <p:nvSpPr>
            <p:cNvPr id="60" name=""/>
            <p:cNvSpPr/>
            <p:nvPr/>
          </p:nvSpPr>
          <p:spPr>
            <a:xfrm rot="21121800">
              <a:off x="34527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234800">
              <a:off x="3790440" y="5589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937040" y="2219400"/>
            <a:ext cx="595440" cy="780480"/>
            <a:chOff x="4937040" y="2219400"/>
            <a:chExt cx="595440" cy="780480"/>
          </a:xfrm>
        </p:grpSpPr>
        <p:sp>
          <p:nvSpPr>
            <p:cNvPr id="66" name=""/>
            <p:cNvSpPr/>
            <p:nvPr/>
          </p:nvSpPr>
          <p:spPr>
            <a:xfrm>
              <a:off x="4937040" y="22194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11640" y="254016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83680" y="911160"/>
            <a:ext cx="4556880" cy="5946840"/>
            <a:chOff x="4783680" y="911160"/>
            <a:chExt cx="4556880" cy="5946840"/>
          </a:xfrm>
        </p:grpSpPr>
        <p:sp>
          <p:nvSpPr>
            <p:cNvPr id="69" name=""/>
            <p:cNvSpPr/>
            <p:nvPr/>
          </p:nvSpPr>
          <p:spPr>
            <a:xfrm flipH="1">
              <a:off x="4783680" y="911160"/>
              <a:ext cx="4556880" cy="261432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1760" y="3519360"/>
              <a:ext cx="1203120" cy="333864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05280" y="1460520"/>
            <a:ext cx="5238720" cy="2179440"/>
            <a:chOff x="3905280" y="1460520"/>
            <a:chExt cx="5238720" cy="2179440"/>
          </a:xfrm>
        </p:grpSpPr>
        <p:sp>
          <p:nvSpPr>
            <p:cNvPr id="72" name=""/>
            <p:cNvSpPr/>
            <p:nvPr/>
          </p:nvSpPr>
          <p:spPr>
            <a:xfrm>
              <a:off x="6024600" y="1460520"/>
              <a:ext cx="311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EF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05280" y="2077920"/>
              <a:ext cx="1904760" cy="15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353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35355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00200" y="4406400"/>
            <a:ext cx="3548520" cy="1600560"/>
            <a:chOff x="1600200" y="4406400"/>
            <a:chExt cx="3548520" cy="1600560"/>
          </a:xfrm>
        </p:grpSpPr>
        <p:grpSp>
          <p:nvGrpSpPr>
            <p:cNvPr id="75" name=""/>
            <p:cNvGrpSpPr/>
            <p:nvPr/>
          </p:nvGrpSpPr>
          <p:grpSpPr>
            <a:xfrm>
              <a:off x="4289400" y="4745160"/>
              <a:ext cx="595080" cy="778680"/>
              <a:chOff x="4289400" y="4745160"/>
              <a:chExt cx="595080" cy="778680"/>
            </a:xfrm>
          </p:grpSpPr>
          <p:sp>
            <p:nvSpPr>
              <p:cNvPr id="76" name=""/>
              <p:cNvSpPr/>
              <p:nvPr/>
            </p:nvSpPr>
            <p:spPr>
              <a:xfrm>
                <a:off x="4289400" y="474516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78040" y="50641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600200" y="4527720"/>
              <a:ext cx="30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INC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3094200">
              <a:off x="3968280" y="4701960"/>
              <a:ext cx="110592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864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86493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05240" y="5486400"/>
              <a:ext cx="39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08200" y="4300560"/>
            <a:ext cx="4502520" cy="2271600"/>
            <a:chOff x="4408200" y="4300560"/>
            <a:chExt cx="4502520" cy="2271600"/>
          </a:xfrm>
        </p:grpSpPr>
        <p:sp>
          <p:nvSpPr>
            <p:cNvPr id="82" name=""/>
            <p:cNvSpPr/>
            <p:nvPr/>
          </p:nvSpPr>
          <p:spPr>
            <a:xfrm>
              <a:off x="5848200" y="5746680"/>
              <a:ext cx="306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e31a0b"/>
                  </a:solidFill>
                  <a:latin typeface="Times New Roman"/>
                </a:rPr>
                <a:t>REF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8505800">
              <a:off x="4503960" y="4608720"/>
              <a:ext cx="1180440" cy="81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864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86493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52880" y="54673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MVC-008F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638360" y="6172200"/>
            <a:ext cx="63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-Neon Laser shot through a strip of Lu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47680" y="209520"/>
            <a:ext cx="8553600" cy="419040"/>
            <a:chOff x="247680" y="209520"/>
            <a:chExt cx="8553600" cy="419040"/>
          </a:xfrm>
        </p:grpSpPr>
        <p:sp>
          <p:nvSpPr>
            <p:cNvPr id="442" name="">
              <a:hlinkClick r:id="" action="ppaction://hlinkshowjump?jump=previousslide"/>
            </p:cNvPr>
            <p:cNvSpPr/>
            <p:nvPr/>
          </p:nvSpPr>
          <p:spPr>
            <a:xfrm>
              <a:off x="247680" y="209520"/>
              <a:ext cx="361800" cy="419040"/>
            </a:xfrm>
            <a:custGeom>
              <a:avLst/>
              <a:gdLst>
                <a:gd name="textAreaLeft" fmla="*/ 23400 w 361800"/>
                <a:gd name="textAreaRight" fmla="*/ 338400 w 361800"/>
                <a:gd name="textAreaTop" fmla="*/ 23400 h 419040"/>
                <a:gd name="textAreaBottom" fmla="*/ 395640 h 419040"/>
              </a:gdLst>
              <a:ahLst/>
              <a:rect l="textAreaLeft" t="textAreaTop" r="textAreaRight" b="textAreaBottom"/>
              <a:pathLst>
                <a:path w="21600" h="25014">
                  <a:moveTo>
                    <a:pt x="0" y="0"/>
                  </a:moveTo>
                  <a:lnTo>
                    <a:pt x="21600" y="0"/>
                  </a:lnTo>
                  <a:lnTo>
                    <a:pt x="21600" y="25014"/>
                  </a:lnTo>
                  <a:lnTo>
                    <a:pt x="0" y="25014"/>
                  </a:lnTo>
                  <a:close/>
                </a:path>
                <a:path fill="lightenLess" w="21600" h="2501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014">
                  <a:moveTo>
                    <a:pt x="21600" y="0"/>
                  </a:moveTo>
                  <a:lnTo>
                    <a:pt x="21600" y="25014"/>
                  </a:lnTo>
                  <a:lnTo>
                    <a:pt x="20200" y="23614"/>
                  </a:lnTo>
                  <a:lnTo>
                    <a:pt x="20200" y="1400"/>
                  </a:lnTo>
                  <a:close/>
                </a:path>
                <a:path fill="darkenLess" w="21600" h="25014">
                  <a:moveTo>
                    <a:pt x="21600" y="25014"/>
                  </a:moveTo>
                  <a:lnTo>
                    <a:pt x="0" y="25014"/>
                  </a:lnTo>
                  <a:lnTo>
                    <a:pt x="1400" y="23614"/>
                  </a:lnTo>
                  <a:lnTo>
                    <a:pt x="20200" y="23614"/>
                  </a:lnTo>
                  <a:close/>
                </a:path>
                <a:path fill="lighten" w="21600" h="25014">
                  <a:moveTo>
                    <a:pt x="0" y="2501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614"/>
                  </a:lnTo>
                  <a:close/>
                </a:path>
                <a:path fill="darken" w="21600" h="25014">
                  <a:moveTo>
                    <a:pt x="3794" y="12507"/>
                  </a:moveTo>
                  <a:lnTo>
                    <a:pt x="17806" y="5500"/>
                  </a:lnTo>
                  <a:lnTo>
                    <a:pt x="17806" y="19513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>
              <a:hlinkClick r:id="" action="ppaction://hlinkshowjump?jump=nextslide"/>
            </p:cNvPr>
            <p:cNvSpPr/>
            <p:nvPr/>
          </p:nvSpPr>
          <p:spPr>
            <a:xfrm>
              <a:off x="8439120" y="209520"/>
              <a:ext cx="362160" cy="419040"/>
            </a:xfrm>
            <a:custGeom>
              <a:avLst/>
              <a:gdLst>
                <a:gd name="textAreaLeft" fmla="*/ 23400 w 362160"/>
                <a:gd name="textAreaRight" fmla="*/ 338760 w 362160"/>
                <a:gd name="textAreaTop" fmla="*/ 23400 h 419040"/>
                <a:gd name="textAreaBottom" fmla="*/ 395640 h 419040"/>
              </a:gdLst>
              <a:ahLst/>
              <a:rect l="textAreaLeft" t="textAreaTop" r="textAreaRight" b="textAreaBottom"/>
              <a:pathLst>
                <a:path w="21600" h="24989">
                  <a:moveTo>
                    <a:pt x="0" y="0"/>
                  </a:moveTo>
                  <a:lnTo>
                    <a:pt x="21600" y="0"/>
                  </a:lnTo>
                  <a:lnTo>
                    <a:pt x="21600" y="24989"/>
                  </a:lnTo>
                  <a:lnTo>
                    <a:pt x="0" y="24989"/>
                  </a:lnTo>
                  <a:close/>
                </a:path>
                <a:path fill="lightenLess" w="21600" h="2498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989">
                  <a:moveTo>
                    <a:pt x="21600" y="0"/>
                  </a:moveTo>
                  <a:lnTo>
                    <a:pt x="21600" y="24989"/>
                  </a:lnTo>
                  <a:lnTo>
                    <a:pt x="20200" y="23589"/>
                  </a:lnTo>
                  <a:lnTo>
                    <a:pt x="20200" y="1400"/>
                  </a:lnTo>
                  <a:close/>
                </a:path>
                <a:path fill="darkenLess" w="21600" h="24989">
                  <a:moveTo>
                    <a:pt x="21600" y="24989"/>
                  </a:moveTo>
                  <a:lnTo>
                    <a:pt x="0" y="24989"/>
                  </a:lnTo>
                  <a:lnTo>
                    <a:pt x="1400" y="23589"/>
                  </a:lnTo>
                  <a:lnTo>
                    <a:pt x="20200" y="23589"/>
                  </a:lnTo>
                  <a:close/>
                </a:path>
                <a:path fill="lighten" w="21600" h="24989">
                  <a:moveTo>
                    <a:pt x="0" y="2498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589"/>
                  </a:lnTo>
                  <a:close/>
                </a:path>
                <a:path fill="darken" w="21600" h="24989">
                  <a:moveTo>
                    <a:pt x="3794" y="5488"/>
                  </a:moveTo>
                  <a:lnTo>
                    <a:pt x="17806" y="12495"/>
                  </a:lnTo>
                  <a:lnTo>
                    <a:pt x="3794" y="19501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MVC-008F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76920" y="148608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62480" y="952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146120" y="2394720"/>
            <a:ext cx="1410480" cy="140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037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03788"/>
              </a:path>
            </a:pathLst>
          </a:custGeom>
          <a:noFill/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9680" y="266760"/>
            <a:ext cx="2614680" cy="1149120"/>
            <a:chOff x="409680" y="266760"/>
            <a:chExt cx="2614680" cy="1149120"/>
          </a:xfrm>
        </p:grpSpPr>
        <p:grpSp>
          <p:nvGrpSpPr>
            <p:cNvPr id="449" name=""/>
            <p:cNvGrpSpPr/>
            <p:nvPr/>
          </p:nvGrpSpPr>
          <p:grpSpPr>
            <a:xfrm>
              <a:off x="981000" y="399960"/>
              <a:ext cx="595440" cy="780480"/>
              <a:chOff x="981000" y="399960"/>
              <a:chExt cx="595440" cy="780480"/>
            </a:xfrm>
          </p:grpSpPr>
          <p:sp>
            <p:nvSpPr>
              <p:cNvPr id="450" name=""/>
              <p:cNvSpPr/>
              <p:nvPr/>
            </p:nvSpPr>
            <p:spPr>
              <a:xfrm>
                <a:off x="981000" y="39996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55600" y="7207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19120" y="4953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4480" y="2667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3560" y="78120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680" y="457200"/>
              <a:ext cx="8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47880" y="80028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00320" y="10476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c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3800" y="1523880"/>
            <a:ext cx="2867040" cy="1149480"/>
            <a:chOff x="523800" y="1523880"/>
            <a:chExt cx="2867040" cy="1149480"/>
          </a:xfrm>
        </p:grpSpPr>
        <p:grpSp>
          <p:nvGrpSpPr>
            <p:cNvPr id="459" name=""/>
            <p:cNvGrpSpPr/>
            <p:nvPr/>
          </p:nvGrpSpPr>
          <p:grpSpPr>
            <a:xfrm>
              <a:off x="523800" y="1657440"/>
              <a:ext cx="595440" cy="780480"/>
              <a:chOff x="523800" y="1657440"/>
              <a:chExt cx="595440" cy="780480"/>
            </a:xfrm>
          </p:grpSpPr>
          <p:sp>
            <p:nvSpPr>
              <p:cNvPr id="460" name=""/>
              <p:cNvSpPr/>
              <p:nvPr/>
            </p:nvSpPr>
            <p:spPr>
              <a:xfrm>
                <a:off x="523800" y="16574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8400" y="197820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61920" y="17524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57280" y="15238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76360" y="20383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90680" y="205740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43120" y="230508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c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919160" y="1595520"/>
              <a:ext cx="1471680" cy="615600"/>
              <a:chOff x="1919160" y="1595520"/>
              <a:chExt cx="1471680" cy="615600"/>
            </a:xfrm>
          </p:grpSpPr>
          <p:sp>
            <p:nvSpPr>
              <p:cNvPr id="468" name=""/>
              <p:cNvSpPr/>
              <p:nvPr/>
            </p:nvSpPr>
            <p:spPr>
              <a:xfrm>
                <a:off x="1919160" y="1690560"/>
                <a:ext cx="147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(sin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52680" y="1595520"/>
                <a:ext cx="5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23800" y="2895480"/>
            <a:ext cx="2867040" cy="1054080"/>
            <a:chOff x="523800" y="2895480"/>
            <a:chExt cx="2867040" cy="1054080"/>
          </a:xfrm>
        </p:grpSpPr>
        <p:grpSp>
          <p:nvGrpSpPr>
            <p:cNvPr id="471" name=""/>
            <p:cNvGrpSpPr/>
            <p:nvPr/>
          </p:nvGrpSpPr>
          <p:grpSpPr>
            <a:xfrm>
              <a:off x="523800" y="3029040"/>
              <a:ext cx="595440" cy="780480"/>
              <a:chOff x="523800" y="3029040"/>
              <a:chExt cx="595440" cy="780480"/>
            </a:xfrm>
          </p:grpSpPr>
          <p:sp>
            <p:nvSpPr>
              <p:cNvPr id="472" name=""/>
              <p:cNvSpPr/>
              <p:nvPr/>
            </p:nvSpPr>
            <p:spPr>
              <a:xfrm>
                <a:off x="523800" y="30290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8400" y="334980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961920" y="31240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7280" y="28954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05000" y="3429000"/>
              <a:ext cx="88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90680" y="342900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919160" y="2967120"/>
              <a:ext cx="1471680" cy="615600"/>
              <a:chOff x="1919160" y="2967120"/>
              <a:chExt cx="1471680" cy="615600"/>
            </a:xfrm>
          </p:grpSpPr>
          <p:sp>
            <p:nvSpPr>
              <p:cNvPr id="479" name=""/>
              <p:cNvSpPr/>
              <p:nvPr/>
            </p:nvSpPr>
            <p:spPr>
              <a:xfrm>
                <a:off x="1919160" y="3062160"/>
                <a:ext cx="147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(sin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52680" y="2967120"/>
                <a:ext cx="5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23800" y="4114800"/>
            <a:ext cx="2100240" cy="894600"/>
            <a:chOff x="523800" y="4114800"/>
            <a:chExt cx="2100240" cy="894600"/>
          </a:xfrm>
        </p:grpSpPr>
        <p:grpSp>
          <p:nvGrpSpPr>
            <p:cNvPr id="482" name=""/>
            <p:cNvGrpSpPr/>
            <p:nvPr/>
          </p:nvGrpSpPr>
          <p:grpSpPr>
            <a:xfrm>
              <a:off x="523800" y="4229280"/>
              <a:ext cx="595440" cy="780120"/>
              <a:chOff x="523800" y="4229280"/>
              <a:chExt cx="595440" cy="780120"/>
            </a:xfrm>
          </p:grpSpPr>
          <p:sp>
            <p:nvSpPr>
              <p:cNvPr id="483" name=""/>
              <p:cNvSpPr/>
              <p:nvPr/>
            </p:nvSpPr>
            <p:spPr>
              <a:xfrm>
                <a:off x="523800" y="422928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8400" y="454968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61920" y="43243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80960" y="4324320"/>
              <a:ext cx="8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04920" y="4114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405240" y="3746520"/>
            <a:ext cx="1638360" cy="799200"/>
            <a:chOff x="3405240" y="3746520"/>
            <a:chExt cx="1638360" cy="799200"/>
          </a:xfrm>
        </p:grpSpPr>
        <p:grpSp>
          <p:nvGrpSpPr>
            <p:cNvPr id="489" name=""/>
            <p:cNvGrpSpPr/>
            <p:nvPr/>
          </p:nvGrpSpPr>
          <p:grpSpPr>
            <a:xfrm>
              <a:off x="3405240" y="3779640"/>
              <a:ext cx="595440" cy="766080"/>
              <a:chOff x="3405240" y="3779640"/>
              <a:chExt cx="595440" cy="766080"/>
            </a:xfrm>
          </p:grpSpPr>
          <p:sp>
            <p:nvSpPr>
              <p:cNvPr id="490" name=""/>
              <p:cNvSpPr/>
              <p:nvPr/>
            </p:nvSpPr>
            <p:spPr>
              <a:xfrm>
                <a:off x="3405240" y="37796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24480" y="408600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762720" y="386712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18040" y="3886200"/>
              <a:ext cx="6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4480" y="374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47560" y="5265720"/>
            <a:ext cx="1467000" cy="810720"/>
            <a:chOff x="547560" y="5265720"/>
            <a:chExt cx="1467000" cy="810720"/>
          </a:xfrm>
        </p:grpSpPr>
        <p:grpSp>
          <p:nvGrpSpPr>
            <p:cNvPr id="496" name=""/>
            <p:cNvGrpSpPr/>
            <p:nvPr/>
          </p:nvGrpSpPr>
          <p:grpSpPr>
            <a:xfrm>
              <a:off x="547560" y="5265720"/>
              <a:ext cx="595440" cy="766080"/>
              <a:chOff x="547560" y="5265720"/>
              <a:chExt cx="595440" cy="766080"/>
            </a:xfrm>
          </p:grpSpPr>
          <p:sp>
            <p:nvSpPr>
              <p:cNvPr id="497" name=""/>
              <p:cNvSpPr/>
              <p:nvPr/>
            </p:nvSpPr>
            <p:spPr>
              <a:xfrm>
                <a:off x="547560" y="526572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6800" y="557208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905040" y="5353200"/>
              <a:ext cx="595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066680" y="5479920"/>
              <a:ext cx="247320" cy="292320"/>
              <a:chOff x="1066680" y="5479920"/>
              <a:chExt cx="247320" cy="292320"/>
            </a:xfrm>
          </p:grpSpPr>
          <p:sp>
            <p:nvSpPr>
              <p:cNvPr id="501" name=""/>
              <p:cNvSpPr/>
              <p:nvPr/>
            </p:nvSpPr>
            <p:spPr>
              <a:xfrm>
                <a:off x="1066680" y="5479920"/>
                <a:ext cx="247320" cy="147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1076400" y="5610960"/>
                <a:ext cx="237240" cy="16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419120" y="5295960"/>
              <a:ext cx="595440" cy="780480"/>
              <a:chOff x="1419120" y="5295960"/>
              <a:chExt cx="595440" cy="780480"/>
            </a:xfrm>
          </p:grpSpPr>
          <p:sp>
            <p:nvSpPr>
              <p:cNvPr id="504" name=""/>
              <p:cNvSpPr/>
              <p:nvPr/>
            </p:nvSpPr>
            <p:spPr>
              <a:xfrm>
                <a:off x="1419120" y="529596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93720" y="56167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5772240" y="5619600"/>
            <a:ext cx="3085920" cy="959040"/>
            <a:chOff x="5772240" y="5619600"/>
            <a:chExt cx="3085920" cy="959040"/>
          </a:xfrm>
        </p:grpSpPr>
        <p:sp>
          <p:nvSpPr>
            <p:cNvPr id="507" name=""/>
            <p:cNvSpPr/>
            <p:nvPr/>
          </p:nvSpPr>
          <p:spPr>
            <a:xfrm>
              <a:off x="6305400" y="5619600"/>
              <a:ext cx="149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72240" y="605808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nternal refle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MVC-005S" descr=""/>
          <p:cNvPicPr/>
          <p:nvPr/>
        </p:nvPicPr>
        <p:blipFill>
          <a:blip r:embed="rId1"/>
          <a:stretch/>
        </p:blipFill>
        <p:spPr>
          <a:xfrm>
            <a:off x="2544840" y="700200"/>
            <a:ext cx="3959280" cy="52768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2647800" y="598176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Fiber Optic Sw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MVC-007S" descr=""/>
          <p:cNvPicPr/>
          <p:nvPr/>
        </p:nvPicPr>
        <p:blipFill>
          <a:blip r:embed="rId1"/>
          <a:stretch/>
        </p:blipFill>
        <p:spPr>
          <a:xfrm>
            <a:off x="7192800" y="585720"/>
            <a:ext cx="1463760" cy="1951200"/>
          </a:xfrm>
          <a:prstGeom prst="rect">
            <a:avLst/>
          </a:prstGeom>
          <a:ln w="0">
            <a:noFill/>
          </a:ln>
        </p:spPr>
      </p:pic>
      <p:pic>
        <p:nvPicPr>
          <p:cNvPr id="512" name="MVC-011S" descr=""/>
          <p:cNvPicPr/>
          <p:nvPr/>
        </p:nvPicPr>
        <p:blipFill>
          <a:blip r:embed="rId2"/>
          <a:stretch/>
        </p:blipFill>
        <p:spPr>
          <a:xfrm>
            <a:off x="7040520" y="3262320"/>
            <a:ext cx="1558800" cy="2077920"/>
          </a:xfrm>
          <a:prstGeom prst="rect">
            <a:avLst/>
          </a:prstGeom>
          <a:ln w="0">
            <a:noFill/>
          </a:ln>
        </p:spPr>
      </p:pic>
      <p:pic>
        <p:nvPicPr>
          <p:cNvPr id="513" name="MVC-013S" descr=""/>
          <p:cNvPicPr/>
          <p:nvPr/>
        </p:nvPicPr>
        <p:blipFill>
          <a:blip r:embed="rId3"/>
          <a:stretch/>
        </p:blipFill>
        <p:spPr>
          <a:xfrm>
            <a:off x="3048120" y="4210200"/>
            <a:ext cx="3111480" cy="2333520"/>
          </a:xfrm>
          <a:prstGeom prst="rect">
            <a:avLst/>
          </a:prstGeom>
          <a:ln w="0">
            <a:noFill/>
          </a:ln>
        </p:spPr>
      </p:pic>
      <p:pic>
        <p:nvPicPr>
          <p:cNvPr id="514" name="MVC-010S" descr=""/>
          <p:cNvPicPr/>
          <p:nvPr/>
        </p:nvPicPr>
        <p:blipFill>
          <a:blip r:embed="rId4"/>
          <a:stretch/>
        </p:blipFill>
        <p:spPr>
          <a:xfrm>
            <a:off x="2419200" y="538200"/>
            <a:ext cx="4159440" cy="3119400"/>
          </a:xfrm>
          <a:prstGeom prst="rect">
            <a:avLst/>
          </a:prstGeom>
          <a:ln w="0">
            <a:noFill/>
          </a:ln>
        </p:spPr>
      </p:pic>
      <p:pic>
        <p:nvPicPr>
          <p:cNvPr id="515" name="MVC-006S" descr=""/>
          <p:cNvPicPr/>
          <p:nvPr/>
        </p:nvPicPr>
        <p:blipFill>
          <a:blip r:embed="rId5"/>
          <a:srcRect l="8046" t="16608" r="5044" b="12087"/>
          <a:stretch/>
        </p:blipFill>
        <p:spPr>
          <a:xfrm>
            <a:off x="324000" y="3900600"/>
            <a:ext cx="1987560" cy="2173320"/>
          </a:xfrm>
          <a:prstGeom prst="rect">
            <a:avLst/>
          </a:prstGeom>
          <a:ln w="0">
            <a:noFill/>
          </a:ln>
        </p:spPr>
      </p:pic>
      <p:pic>
        <p:nvPicPr>
          <p:cNvPr id="516" name="MVC-008S" descr=""/>
          <p:cNvPicPr/>
          <p:nvPr/>
        </p:nvPicPr>
        <p:blipFill>
          <a:blip r:embed="rId6"/>
          <a:stretch/>
        </p:blipFill>
        <p:spPr>
          <a:xfrm>
            <a:off x="297000" y="299880"/>
            <a:ext cx="1806480" cy="2408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219480" y="3162240"/>
            <a:ext cx="31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Fiber Optic Ca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MVC-003S" descr=""/>
          <p:cNvPicPr/>
          <p:nvPr/>
        </p:nvPicPr>
        <p:blipFill>
          <a:blip r:embed="rId1"/>
          <a:stretch/>
        </p:blipFill>
        <p:spPr>
          <a:xfrm>
            <a:off x="4765680" y="452520"/>
            <a:ext cx="4206960" cy="5608440"/>
          </a:xfrm>
          <a:prstGeom prst="rect">
            <a:avLst/>
          </a:prstGeom>
          <a:ln w="0">
            <a:noFill/>
          </a:ln>
        </p:spPr>
      </p:pic>
      <p:pic>
        <p:nvPicPr>
          <p:cNvPr id="519" name="MVC-004S" descr=""/>
          <p:cNvPicPr/>
          <p:nvPr/>
        </p:nvPicPr>
        <p:blipFill>
          <a:blip r:embed="rId2"/>
          <a:stretch/>
        </p:blipFill>
        <p:spPr>
          <a:xfrm>
            <a:off x="266760" y="433440"/>
            <a:ext cx="4221000" cy="5627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162240" y="6076800"/>
            <a:ext cx="3105360" cy="45972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ber Optic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MVC-001S" descr=""/>
          <p:cNvPicPr/>
          <p:nvPr/>
        </p:nvPicPr>
        <p:blipFill>
          <a:blip r:embed="rId1"/>
          <a:stretch/>
        </p:blipFill>
        <p:spPr>
          <a:xfrm>
            <a:off x="4716360" y="357120"/>
            <a:ext cx="4116600" cy="5488200"/>
          </a:xfrm>
          <a:prstGeom prst="rect">
            <a:avLst/>
          </a:prstGeom>
          <a:ln w="0">
            <a:noFill/>
          </a:ln>
        </p:spPr>
      </p:pic>
      <p:pic>
        <p:nvPicPr>
          <p:cNvPr id="522" name="MVC-005S" descr=""/>
          <p:cNvPicPr/>
          <p:nvPr/>
        </p:nvPicPr>
        <p:blipFill>
          <a:blip r:embed="rId2"/>
          <a:stretch/>
        </p:blipFill>
        <p:spPr>
          <a:xfrm>
            <a:off x="392040" y="871560"/>
            <a:ext cx="4119480" cy="549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fiber%20optic%20swan%202" descr=""/>
          <p:cNvPicPr/>
          <p:nvPr/>
        </p:nvPicPr>
        <p:blipFill>
          <a:blip r:embed="rId1"/>
          <a:stretch/>
        </p:blipFill>
        <p:spPr>
          <a:xfrm>
            <a:off x="4941720" y="803160"/>
            <a:ext cx="3570480" cy="5435640"/>
          </a:xfrm>
          <a:prstGeom prst="rect">
            <a:avLst/>
          </a:prstGeom>
          <a:ln w="0">
            <a:noFill/>
          </a:ln>
        </p:spPr>
      </p:pic>
      <p:pic>
        <p:nvPicPr>
          <p:cNvPr id="524" name="fiber%20optic%20swan%204" descr=""/>
          <p:cNvPicPr/>
          <p:nvPr/>
        </p:nvPicPr>
        <p:blipFill>
          <a:blip r:embed="rId2"/>
          <a:stretch/>
        </p:blipFill>
        <p:spPr>
          <a:xfrm>
            <a:off x="379440" y="717480"/>
            <a:ext cx="4197240" cy="554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fiber%20optic%20swan%201" descr=""/>
          <p:cNvPicPr/>
          <p:nvPr/>
        </p:nvPicPr>
        <p:blipFill>
          <a:blip r:embed="rId1"/>
          <a:stretch/>
        </p:blipFill>
        <p:spPr>
          <a:xfrm>
            <a:off x="615960" y="819000"/>
            <a:ext cx="3532320" cy="4975200"/>
          </a:xfrm>
          <a:prstGeom prst="rect">
            <a:avLst/>
          </a:prstGeom>
          <a:ln w="0">
            <a:noFill/>
          </a:ln>
        </p:spPr>
      </p:pic>
      <p:pic>
        <p:nvPicPr>
          <p:cNvPr id="526" name="fiber%20optic%20swan%203" descr=""/>
          <p:cNvPicPr/>
          <p:nvPr/>
        </p:nvPicPr>
        <p:blipFill>
          <a:blip r:embed="rId2"/>
          <a:stretch/>
        </p:blipFill>
        <p:spPr>
          <a:xfrm>
            <a:off x="4624560" y="861840"/>
            <a:ext cx="37764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28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9960" y="4915080"/>
            <a:ext cx="32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 fiber ribbon encased in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32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99960" y="470520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fiber can carry 97,168 simultaneous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72480" y="5512680"/>
            <a:ext cx="999000" cy="1326240"/>
            <a:chOff x="3372480" y="5512680"/>
            <a:chExt cx="999000" cy="1326240"/>
          </a:xfrm>
        </p:grpSpPr>
        <p:sp>
          <p:nvSpPr>
            <p:cNvPr id="92" name=""/>
            <p:cNvSpPr/>
            <p:nvPr/>
          </p:nvSpPr>
          <p:spPr>
            <a:xfrm rot="21121800">
              <a:off x="34527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234800">
              <a:off x="3790440" y="5589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937040" y="2219400"/>
            <a:ext cx="595440" cy="780480"/>
            <a:chOff x="4937040" y="2219400"/>
            <a:chExt cx="595440" cy="780480"/>
          </a:xfrm>
        </p:grpSpPr>
        <p:sp>
          <p:nvSpPr>
            <p:cNvPr id="98" name=""/>
            <p:cNvSpPr/>
            <p:nvPr/>
          </p:nvSpPr>
          <p:spPr>
            <a:xfrm>
              <a:off x="4937040" y="22194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1640" y="254016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783680" y="911160"/>
            <a:ext cx="4556880" cy="5946840"/>
            <a:chOff x="4783680" y="911160"/>
            <a:chExt cx="4556880" cy="5946840"/>
          </a:xfrm>
        </p:grpSpPr>
        <p:sp>
          <p:nvSpPr>
            <p:cNvPr id="101" name=""/>
            <p:cNvSpPr/>
            <p:nvPr/>
          </p:nvSpPr>
          <p:spPr>
            <a:xfrm flipH="1">
              <a:off x="4783680" y="911160"/>
              <a:ext cx="4556880" cy="261432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1760" y="3519360"/>
              <a:ext cx="1203120" cy="333864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06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36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99960" y="4705200"/>
            <a:ext cx="33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 fiber ribbon can carry 1,166,016 simultaneous phone calls at a transfer rate of 45.6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MVC-015S" descr=""/>
          <p:cNvPicPr/>
          <p:nvPr/>
        </p:nvPicPr>
        <p:blipFill>
          <a:blip r:embed="rId1"/>
          <a:stretch/>
        </p:blipFill>
        <p:spPr>
          <a:xfrm>
            <a:off x="1782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85080" y="5513040"/>
            <a:ext cx="999000" cy="1325880"/>
            <a:chOff x="3385080" y="5513040"/>
            <a:chExt cx="999000" cy="1325880"/>
          </a:xfrm>
        </p:grpSpPr>
        <p:sp>
          <p:nvSpPr>
            <p:cNvPr id="115" name=""/>
            <p:cNvSpPr/>
            <p:nvPr/>
          </p:nvSpPr>
          <p:spPr>
            <a:xfrm rot="21121800">
              <a:off x="34653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234800">
              <a:off x="3803040" y="5589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83680" y="911160"/>
            <a:ext cx="4556880" cy="26143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11760" y="3519360"/>
            <a:ext cx="1203120" cy="3338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06560" y="3960720"/>
            <a:ext cx="30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28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99760" y="5472000"/>
            <a:ext cx="970200" cy="1317960"/>
            <a:chOff x="3299760" y="5472000"/>
            <a:chExt cx="970200" cy="1317960"/>
          </a:xfrm>
        </p:grpSpPr>
        <p:sp>
          <p:nvSpPr>
            <p:cNvPr id="137" name=""/>
            <p:cNvSpPr/>
            <p:nvPr/>
          </p:nvSpPr>
          <p:spPr>
            <a:xfrm rot="21211800">
              <a:off x="3365640" y="552744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324800">
              <a:off x="3717360" y="5553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963960" y="3514680"/>
            <a:ext cx="838080" cy="20876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80800" y="1225800"/>
            <a:ext cx="4433760" cy="2294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11760" y="3537000"/>
            <a:ext cx="1316160" cy="3321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49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14080" y="5416200"/>
            <a:ext cx="889920" cy="1293120"/>
            <a:chOff x="3214080" y="5416200"/>
            <a:chExt cx="889920" cy="1293120"/>
          </a:xfrm>
        </p:grpSpPr>
        <p:sp>
          <p:nvSpPr>
            <p:cNvPr id="159" name=""/>
            <p:cNvSpPr/>
            <p:nvPr/>
          </p:nvSpPr>
          <p:spPr>
            <a:xfrm rot="21451800">
              <a:off x="3239640" y="5472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564800">
              <a:off x="3628440" y="551088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68560" y="3513240"/>
            <a:ext cx="935280" cy="20271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1520" y="1491840"/>
            <a:ext cx="4333320" cy="20307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26160" y="3535200"/>
            <a:ext cx="1641240" cy="3542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71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2640" y="5374080"/>
            <a:ext cx="860760" cy="1274400"/>
            <a:chOff x="3122640" y="5374080"/>
            <a:chExt cx="860760" cy="1274400"/>
          </a:xfrm>
        </p:grpSpPr>
        <p:sp>
          <p:nvSpPr>
            <p:cNvPr id="180" name=""/>
            <p:cNvSpPr/>
            <p:nvPr/>
          </p:nvSpPr>
          <p:spPr>
            <a:xfrm>
              <a:off x="3122640" y="54291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13000">
              <a:off x="3533760" y="54763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767040" y="3513240"/>
            <a:ext cx="1036800" cy="19922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80440" y="1692000"/>
            <a:ext cx="4343760" cy="18309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9960" y="3549600"/>
            <a:ext cx="1785960" cy="3510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505320"/>
            <a:ext cx="546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800280"/>
            <a:ext cx="0" cy="554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94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68200" y="5303880"/>
            <a:ext cx="894240" cy="1285560"/>
            <a:chOff x="2968200" y="5303880"/>
            <a:chExt cx="894240" cy="1285560"/>
          </a:xfrm>
        </p:grpSpPr>
        <p:sp>
          <p:nvSpPr>
            <p:cNvPr id="203" name=""/>
            <p:cNvSpPr/>
            <p:nvPr/>
          </p:nvSpPr>
          <p:spPr>
            <a:xfrm rot="109200">
              <a:off x="2987280" y="5357520"/>
              <a:ext cx="838080" cy="121896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22200">
              <a:off x="3414960" y="5411880"/>
              <a:ext cx="453960" cy="964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657600" y="3513240"/>
            <a:ext cx="1146240" cy="19177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80080" y="1920960"/>
            <a:ext cx="4387680" cy="15998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6160" y="3521160"/>
            <a:ext cx="1946160" cy="33368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15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04120" y="5272560"/>
            <a:ext cx="906120" cy="1289880"/>
            <a:chOff x="2904120" y="5272560"/>
            <a:chExt cx="906120" cy="1289880"/>
          </a:xfrm>
        </p:grpSpPr>
        <p:sp>
          <p:nvSpPr>
            <p:cNvPr id="224" name=""/>
            <p:cNvSpPr/>
            <p:nvPr/>
          </p:nvSpPr>
          <p:spPr>
            <a:xfrm rot="151200">
              <a:off x="2930400" y="5325480"/>
              <a:ext cx="838080" cy="121896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864200">
              <a:off x="3363840" y="5382720"/>
              <a:ext cx="453960" cy="964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606480" y="3513240"/>
            <a:ext cx="1197000" cy="19065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77560" y="2136960"/>
            <a:ext cx="4358520" cy="1382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9960" y="3549600"/>
            <a:ext cx="206244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36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11:45Z</dcterms:created>
  <dc:creator>Richard J. Terwilliger</dc:creator>
  <dc:description/>
  <dc:language>en-US</dc:language>
  <cp:lastModifiedBy>TZ</cp:lastModifiedBy>
  <dcterms:modified xsi:type="dcterms:W3CDTF">2006-04-20T11:55:46Z</dcterms:modified>
  <cp:revision>31</cp:revision>
  <dc:subject/>
  <dc:title>PowerPoint Presentation</dc:title>
</cp:coreProperties>
</file>